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ED85E-DFBC-465B-AE5C-A7A692140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05140-CAD4-49C2-9CAF-CD6B787A4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86B0B-90FA-4A4E-A55C-E186ECEFF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6F1B7-40F5-4803-98A8-5FB23F4AF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36687-C7EB-4681-A927-029BB3035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FD285-6FAB-4A8B-9732-09DBEB872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368B4-62B2-4510-BD0A-55488332A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35D91-5202-4D9C-8F0B-EFAEBB83D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70C20-ED36-4DD6-8E3D-C3FF050BC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FC2F8-ACF1-487B-8F19-C80FF3FA9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22D31-12CF-41C6-91B4-DF26549C8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17388-C1BF-4BCD-B202-C438C2854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D5239-B6D2-4D0D-A516-D9ED4C5CA7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3"/>
          <p:cNvGrpSpPr/>
          <p:nvPr/>
        </p:nvGrpSpPr>
        <p:grpSpPr>
          <a:xfrm>
            <a:off x="504720" y="3629160"/>
            <a:ext cx="8153640" cy="2706480"/>
            <a:chOff x="504720" y="3629160"/>
            <a:chExt cx="8153640" cy="2706480"/>
          </a:xfrm>
        </p:grpSpPr>
        <p:sp>
          <p:nvSpPr>
            <p:cNvPr id="42" name="Rectangle 4"/>
            <p:cNvSpPr/>
            <p:nvPr/>
          </p:nvSpPr>
          <p:spPr>
            <a:xfrm>
              <a:off x="1752840" y="5954760"/>
              <a:ext cx="5639040" cy="38088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Rectangle 5"/>
            <p:cNvSpPr/>
            <p:nvPr/>
          </p:nvSpPr>
          <p:spPr>
            <a:xfrm>
              <a:off x="4343760" y="4735440"/>
              <a:ext cx="457200" cy="121896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Rectangle 6"/>
            <p:cNvSpPr/>
            <p:nvPr/>
          </p:nvSpPr>
          <p:spPr>
            <a:xfrm>
              <a:off x="1676520" y="4583160"/>
              <a:ext cx="5791320" cy="15228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Rectangle 7"/>
            <p:cNvSpPr/>
            <p:nvPr/>
          </p:nvSpPr>
          <p:spPr>
            <a:xfrm>
              <a:off x="1676520" y="3897360"/>
              <a:ext cx="152280" cy="83808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" name="Rectangle 8"/>
            <p:cNvSpPr/>
            <p:nvPr/>
          </p:nvSpPr>
          <p:spPr>
            <a:xfrm>
              <a:off x="7315920" y="3897360"/>
              <a:ext cx="152280" cy="83808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" name="Oval 9"/>
            <p:cNvSpPr/>
            <p:nvPr/>
          </p:nvSpPr>
          <p:spPr>
            <a:xfrm>
              <a:off x="504720" y="3629160"/>
              <a:ext cx="2514600" cy="30456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" name="Oval 10"/>
            <p:cNvSpPr/>
            <p:nvPr/>
          </p:nvSpPr>
          <p:spPr>
            <a:xfrm>
              <a:off x="6143760" y="3632400"/>
              <a:ext cx="2514600" cy="30456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7T18:38:02Z</dcterms:created>
  <dc:creator>Jennifer Schwinghammer</dc:creator>
  <dc:description/>
  <dc:language>en-US</dc:language>
  <cp:lastModifiedBy>Jennifer Schwinghammer</cp:lastModifiedBy>
  <dcterms:modified xsi:type="dcterms:W3CDTF">2008-05-31T00:27:40Z</dcterms:modified>
  <cp:revision>1</cp:revision>
  <dc:subject/>
  <dc:title>Slide 1</dc:title>
</cp:coreProperties>
</file>